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8BD-481C-4154-A7F1-C225CE79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4BFF-607E-45DB-8C4F-21F1D2A7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4CA-FA3E-4078-AC1E-E63C96C4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120E-5255-4386-AAF7-068B318F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A0F-1BDB-4F5C-9989-AB0733CC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3F1-A725-4D20-9579-65ACA9E5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A749-9410-47A4-A735-22D4C614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9FA9-34B3-4630-9496-AC396EF9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1B8E-C6C1-49DB-90A5-6A0CDFBB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230-8252-4286-A0D6-53F57C38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C74F-5BA6-43FA-8984-1CCAF62A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37B-A4ED-4D62-A314-F7527C13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0268-3672-44AA-9C78-E11FE49CA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69608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PAS – Università di Pisa</a:t>
            </a:r>
            <a:br>
              <a:rPr sz="4800"/>
            </a:br>
            <a:br>
              <a:rPr sz="4800"/>
            </a:br>
            <a:r>
              <a:rPr b="1" i="1" lang="it-IT" sz="4800" spc="-1" strike="noStrike">
                <a:solidFill>
                  <a:srgbClr val="333399"/>
                </a:solidFill>
                <a:latin typeface="Arial"/>
              </a:rPr>
              <a:t>LA VALUTAZIONE </a:t>
            </a:r>
            <a:br>
              <a:rPr sz="4800"/>
            </a:br>
            <a:r>
              <a:rPr b="1" i="1" lang="it-IT" sz="4800" spc="-1" strike="noStrike">
                <a:solidFill>
                  <a:srgbClr val="333399"/>
                </a:solidFill>
                <a:latin typeface="Arial"/>
              </a:rPr>
              <a:t>DELLE SCUOLE:</a:t>
            </a: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800"/>
            </a:b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tra valutazione esterna </a:t>
            </a:r>
            <a:br>
              <a:rPr sz="4800"/>
            </a:b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e valutazione interna</a:t>
            </a:r>
            <a:br>
              <a:rPr sz="4800"/>
            </a:br>
            <a:br>
              <a:rPr sz="4000"/>
            </a:b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Davide Capperuc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dro di riferimento dei processi valutativi delle scu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7993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dro di riferimen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i processi valutativi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le scu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sult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39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763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sto e riso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739880"/>
            <a:ext cx="82296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atiche educative e didatti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915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atiche educative e didatti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8390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unzionamento organizza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10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si della valutazione esterna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 della vis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nte la vi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ccomandazione del Parlamento europeo e del Consigli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 12 febbraio 2001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la valutazione della qualità dell’insegnamento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iluppare 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tazione ester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 scopo di fornire un sostegno metodologico all'autovalutazione e fornire un'analisi esterna della scuola che incentivi un processo costante di miglioramento facendo attenzione a non limitarsi al solo controllo amministrati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aggiare l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valutazi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parte degli istituti scolastici come metodo per fare delle scuole un luogo di apprendimento e di perfezionamento, associando con equilibrio autovalutazione e valutazione es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o la vi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iettivi di miglior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V – Rapporto di 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" y="1616040"/>
            <a:ext cx="86868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iano di miglior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biettivi da perseg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rile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att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zioni intrapr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conseguiti (il più possibile misurabi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cializzazione esiti PdM con comunità scolastica e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o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valutazi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lecit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ascuna scuola ad interrogarsi sulla qualità del servizio offerto al fine di migliorarlo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ert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le scuole di compiere scelte autonome dovrebbe infatti essere sempre connessa all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sabilit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intraprendere processi di miglioramento e di qualificazione del serviz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o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van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orsi di autoanali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vorendo in tal modo l’apprendimento organizzativo - e costruendo quindi un sistema che stabilisc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ssioni tra la valutazione esterna e quella inter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è possibi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scare processi di miglioram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questo modo la valutazione può realmente diventare uno strumento efficace per la gestione strategica dell’istituzione scolastica ste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utazione esterna/Autovalutazio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Miglior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sterna/Valutazione in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 Autovalutazi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li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3886200"/>
            <a:ext cx="0" cy="108756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golamento del Sistema Nazionale di Valut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 Schema di Regolamento del Sistema Nazionale di Valutazione (DPR n. 80/’13), in materia d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uzione e formazione approvato a marzo 2013 ha sancito la rilevanza del rapporto t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sterna e autovalu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 migli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etti sperimentali per la valutazione delle scu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3818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getto V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getto Valutazione e Miglioramento (V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Cfr. Invalsi,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Linee guida per i valutatori esterni del progetto Vales e Valutazione e migliora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201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rogetto V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etto Valutazione e Miglioramento (V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11125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7:16:22Z</dcterms:created>
  <dc:creator>Preside</dc:creator>
  <dc:description/>
  <dc:language>en-US</dc:language>
  <cp:lastModifiedBy>x</cp:lastModifiedBy>
  <dcterms:modified xsi:type="dcterms:W3CDTF">2014-03-20T20:52:37Z</dcterms:modified>
  <cp:revision>8</cp:revision>
  <dc:subject/>
  <dc:title>PAS – Università di Pisa  LA VALUTAZIONE  DELLE SCUOLE:  tra valutazione esterna  e valutazione interna  Davide Capperucci</dc:title>
</cp:coreProperties>
</file>