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4A03-12A3-4210-B844-0C25AAD42B0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7B30-495E-4023-B175-0DBA789141F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6695-662D-4996-9741-D82927784EC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B4BD-9ED0-49F0-B0C2-9184ECECD20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2807-9017-436C-B7C4-D7538A612FF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AC01-200F-4893-BD03-4F857C92D0D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B470-04E8-4965-90ED-7468B47FF63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27B8-3618-4AF0-93B0-396A4C66889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EB65-8C06-4E54-A716-EB610C1ABC8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0E1A-724B-41D2-AB78-11D619AF742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AF72-F68B-44A3-B02B-95D7FE6C0E2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9D5B-F274-4039-939E-5371EBC4D34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6D67-3B4A-4970-B378-7BB55B958DF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1EAE-0860-4754-B75C-D7DCE4CD25C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C510-7A7F-40E0-9694-0841A4D5D42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B4C6-C114-4252-A0ED-9C2D803F61D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E3CC-0018-48F7-BB47-EBE214C23BB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D2A1-2C5F-49E4-8C8C-04337CFDB24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7B1C-0A6A-4C35-8D0A-5F608AB0A24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8716-2039-45AD-BB8F-B2C9EEEBA8B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6A68-E78E-4619-BC3C-B5BEAECD163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8A17-E80E-4DBF-A7C4-BDF7624431F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99BD-9AC0-4CEC-B2CD-50461ADAA26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EE9C-3DE6-4B13-89DE-666DDF642B5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BE73-A921-453C-A4BB-CB5964988B6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5A1B-B1D6-4EA0-B511-308FE99A119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D690-92FF-4F2C-8285-BB2CD3FE751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A588-23C6-4568-AC3C-72A393EE220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2919-210F-4672-A5E0-7EDDF6DEC71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35A9-9EF5-46E0-B283-A5077CF42A5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E43D-F2CF-458E-8CD3-8B478B97549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EEB7-3A0C-424D-BEDC-274CFD59A53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4733-6749-405B-8E0B-395B9B25ACE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544E-40C2-4A9E-AA96-3CB9887A4B8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7CE4-106D-4B24-B4E7-5D9BA61A514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32A8-A931-4B85-8EA9-1C197020833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E00A-E9F8-4B54-93DD-D40F7C866E9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13E4-E137-41C0-BA23-A89E8148E64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B6DF-B12E-4AD0-AAC5-D7F1D20AAF9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40F7-5254-427E-89A5-94128213C0C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73D2-6AAB-4C14-837E-D9E8E18052C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5321-9223-4A37-82FD-BC4D5AB7B03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7241-FD94-4100-B534-B3737AFF0B8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4AF2-20E7-4393-91D0-50664BFAF11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C62D-ECA3-454D-ACF4-F8E8B4A5A8A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6050-BA27-4559-876A-24A7676E56D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A64F-DA92-4BC7-976D-BCE2B40FB2B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1E1E-EB83-4F5C-8354-CDF05C2F8EF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68D1-A282-41CF-9368-B233CF0883D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3E97-5D42-4E89-8E44-7DACBA8E827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EA5D-A1DD-410D-9F53-F2A659C9171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E47A-46A1-4E67-A845-113777DF3D1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E1C0-E12E-4526-8F75-F6BB7F997D9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AD72-E958-4747-AA48-B6F7FB310A5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9862-7142-4A8D-A8EB-5492710A158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5B6-95BF-44C8-BDC1-C7D22D19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8C8-9BDD-4EF4-92EE-DC04972B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29F-A544-4C4D-AAC6-75D622C9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4A4-6254-4577-8E11-9B8D3B0C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A964-6F77-4006-9DB5-EE959F25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EC8B-B3C6-4CE3-BDBA-2ED4F096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F27C-DBD5-4B7E-A75C-4D7E302F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536C-73FE-41B2-A0C3-DA5605A4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004E-448A-4EB0-A9C8-DD2C7E0C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7643-A9F8-4014-9F05-3914E2D2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679C-A707-47EC-8B22-F02966C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D9B-D734-485A-83BF-AA11C4E4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9636-E2EE-43AE-96C2-45E25DAF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0007-8BF9-4E19-A47D-702A9D7D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972E-C8D3-45F0-81D2-F74F6679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B1F9-713B-4518-80FD-333F95DB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616A-D533-4D2B-9190-C844ECC2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1A2-05C7-4187-ABF3-2A2BCCA5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A14-BEC2-4BF7-B3B6-1A1B9AC5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5CE-D0AC-4A52-9E83-47511793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42F-DEEC-4F2B-9CA7-3C26126A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96B-3283-49D6-BB87-7C7378BD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F5D-9FC1-46B5-833D-BE5B836F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924-2D9F-4A9B-8DA4-4B109F5D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086C-676D-404C-8A2A-A09B6EC5DD23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1E1E-A436-4A6B-A939-6B6F05D5CA14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634600" cy="423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PAS – Univ. Di Pisa, 2013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La progettazione curricolare: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modelli teorico-metodologici di riferimento e quadro normativo </a:t>
            </a: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5285880"/>
            <a:ext cx="80643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Verdana"/>
              </a:rPr>
              <a:t>Davide Capperuc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Programma</a:t>
            </a:r>
            <a:r>
              <a:rPr b="1" lang="it-IT" sz="2400" spc="-1" strike="noStrike">
                <a:solidFill>
                  <a:srgbClr val="ccecff"/>
                </a:solidFill>
                <a:latin typeface="Century Gothic"/>
              </a:rPr>
              <a:t>              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Curricolo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80720" y="15235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e Accade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conoscenze disciplinar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57440" y="15238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(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alisi d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bisog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soggetto/contesto)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132000" y="22766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32000" y="350028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132000" y="48690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00800" y="21337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400800" y="342900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6400800" y="4572000"/>
            <a:ext cx="243000" cy="857160"/>
          </a:xfrm>
          <a:prstGeom prst="upArrow">
            <a:avLst>
              <a:gd name="adj1" fmla="val 50000"/>
              <a:gd name="adj2" fmla="val 9994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rticolazioni de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99920"/>
            <a:ext cx="88567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Verdana"/>
              </a:rPr>
              <a:t>Quota nazion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Verdana"/>
              </a:rPr>
              <a:t>Quota loc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ff33"/>
                </a:solidFill>
                <a:latin typeface="Verdana"/>
              </a:rPr>
              <a:t>Quota extracurricolare aggiun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e ordinamenti scolast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, nel rispetto delle finalità, de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osti dal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 per il curric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ff33"/>
                </a:solidFill>
                <a:latin typeface="Arial"/>
              </a:rPr>
              <a:t>Curricolo e compet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Oggi il fine delle istituzioni scolastiche è quello di </a:t>
            </a:r>
            <a:r>
              <a:rPr b="1" i="1" lang="it-IT" sz="4000" spc="-1" strike="noStrike">
                <a:solidFill>
                  <a:srgbClr val="ff3300"/>
                </a:solidFill>
                <a:latin typeface="Verdana"/>
              </a:rPr>
              <a:t>formare competenze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spendibili (anche) in contesti formativi e professionali diversi da quello scolas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56800" y="1214280"/>
            <a:ext cx="728676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competenze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Le competenze sono l’insieme delle buone </a:t>
            </a:r>
            <a:r>
              <a:rPr b="1" i="1" lang="it-IT" sz="2400" spc="-1" strike="noStrike">
                <a:solidFill>
                  <a:srgbClr val="ff6699"/>
                </a:solidFill>
                <a:latin typeface="Verdana"/>
              </a:rPr>
              <a:t>capacità potenzi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ciascuno portate effettivamente al miglior compimento nelle particolari situazioni date: ovvero indicano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quello che siamo effettivamente in grado di fare, pensare e agir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adesso, nell’unità della nostra persona, dinanzi all’unità complessa dei problemi e delle situazioni di un certo tipo (professionali e non professionali) che siamo chiamati ad affrontare e risolvere in un determinato contes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Mentre le capacità esprimono la forma del nostro essere potenziale, le competenze manifestano, quindi, quella del nostro essere attua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nelle diverse contingenze date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Raccomandazioni, 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llegate al Decreto n. 59/2004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L’agire personale di ciascuno, basato sulle conoscenze e abilità acquisi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funzionale all’esecuzione di un compito, alla realizzazione di un progetto. Non è mai un agire semplice, atomizzato, astratto, ma è sempre un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agire compless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coinvolge tutta la persona e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che connette in maniera unitaria e inseparabile i saperi (conoscenze), i saper fare (abilità), i comportamenti individuali e relazionali, gli atteggiamenti emotivi, le scelte valoriali, le motivazioni e i fin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 Per questo, nasce da una continua interazione tra persona, ambiente e società, e tra significati personali e sociali, impliciti ed espliciti»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Da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</a:rPr>
              <a:t> Indicazioni Nazionali (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L’</a:t>
            </a:r>
            <a:r>
              <a:rPr b="1" i="1" lang="it-IT" sz="4000" spc="-1" strike="noStrike">
                <a:solidFill>
                  <a:srgbClr val="ccecff"/>
                </a:solidFill>
                <a:latin typeface="Arial"/>
              </a:rPr>
              <a:t>iceberg</a:t>
            </a: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3" descr="mso8A951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74456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Una competenza è data dall’insieme integrato di </a:t>
            </a:r>
            <a:r>
              <a:rPr b="0" lang="it-IT" sz="3000" spc="-1" strike="noStrike">
                <a:solidFill>
                  <a:srgbClr val="ffcccc"/>
                </a:solidFill>
                <a:latin typeface="Verdana"/>
              </a:rPr>
              <a:t>abilità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3000" spc="-1" strike="noStrike">
                <a:solidFill>
                  <a:srgbClr val="66ffcc"/>
                </a:solidFill>
                <a:latin typeface="Verdana"/>
              </a:rPr>
              <a:t>conoscenz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it-IT" sz="3000" spc="-1" strike="noStrike">
                <a:solidFill>
                  <a:srgbClr val="ffcc66"/>
                </a:solidFill>
                <a:latin typeface="Verdana"/>
              </a:rPr>
              <a:t>atteggiament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che un soggetto in determinati contesti reali, utilizzando materiali e strumenti, è in grado di attivare realizzando una prestazione consapevole finalizzata al raggiungi-mento di uno scopo.</a:t>
            </a:r>
            <a:r>
              <a:rPr b="0" lang="it-IT" sz="2400" spc="-1" strike="noStrike">
                <a:solidFill>
                  <a:srgbClr val="000000"/>
                </a:solidFill>
                <a:latin typeface="KTKVGH+TimesNewRomanP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916000" y="475920"/>
            <a:ext cx="3322440" cy="57636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660033"/>
                </a:solidFill>
                <a:latin typeface="Verdana"/>
              </a:rPr>
              <a:t>Compete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50920" y="2276640"/>
            <a:ext cx="2665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Conoscen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059280" y="2276640"/>
            <a:ext cx="2449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bilit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51640" y="2276640"/>
            <a:ext cx="3322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Atteggiamen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468360" y="4437000"/>
            <a:ext cx="8353440" cy="194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e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76360" y="4941720"/>
            <a:ext cx="6408720" cy="5749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Prestazione/Compito auten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3"/>
          <p:cNvSpPr/>
          <p:nvPr/>
        </p:nvSpPr>
        <p:spPr>
          <a:xfrm rot="5400000">
            <a:off x="2770920" y="-531000"/>
            <a:ext cx="144720" cy="518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971640" y="155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ccff33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5"/>
          <p:cNvSpPr/>
          <p:nvPr/>
        </p:nvSpPr>
        <p:spPr>
          <a:xfrm rot="5400000">
            <a:off x="7199640" y="44028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64000" y="155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it-IT" sz="1800" spc="-1" strike="noStrike">
                <a:solidFill>
                  <a:srgbClr val="66ffcc"/>
                </a:solidFill>
                <a:latin typeface="Verdana"/>
              </a:rPr>
              <a:t>TRATTI PERSON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17"/>
          <p:cNvSpPr/>
          <p:nvPr/>
        </p:nvSpPr>
        <p:spPr>
          <a:xfrm flipH="1">
            <a:off x="2987640" y="1125360"/>
            <a:ext cx="172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716360" y="112536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427640" y="2924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476360" y="2852640"/>
            <a:ext cx="2808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H="1">
            <a:off x="4572000" y="2852640"/>
            <a:ext cx="273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la sfida della scuola di og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Si tratta di accert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non ciò che lo studente s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ma ciò che sa f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con ciò che sa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Grant P. Wiggins (199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«La competenza può essere sommariamente definita come l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capacità di usare le proprie conoscenze e le proprie abilità per raggiungere un dato obiet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o per fornire una prestazione rispondente a determinati standard di efficacia) in certi contesti. In altri termini, la competenza consisterebbe nella capacità di padroneggiare una conoscenz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nd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 di utilizzarla efficacemente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s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in una certa gamma di situazioni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. Baldacci, </a:t>
            </a:r>
            <a:r>
              <a:rPr b="0" i="1" lang="it-IT" sz="1600" spc="-1" strike="noStrike">
                <a:solidFill>
                  <a:srgbClr val="ffffff"/>
                </a:solidFill>
                <a:latin typeface="Verdana"/>
              </a:rPr>
              <a:t>La didattica per modu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Laterza, Roma-Bari, 2003, p. 33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“essenzial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’attributo di </a:t>
            </a: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«essenzialità»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non è intrinseco all’oggetto (competenza o sapere che sia) e quindi non può riferirsi a standard minimi di competenza, ma va attribuito a ciò che è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ssenzi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per il soggetto al fine di sviluppare al meglio le sue potenzialità, anche quando i livelli di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padronanza delle competenze saranno raggiunti a livelli divers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ompetenza: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tra personalismo e funzionalism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Pers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valorizzazione delle potenzialità e delle capacità individuali dell’alunno attraverso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son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i percorsi formativi che significa sia adattamento delle metodologie a livello individuale (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individu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), ma anche sviluppo di competenze diversificate da soggetto a sogget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Verdana"/>
              </a:rPr>
              <a:t>Funzi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lcune competenze devono essere necessariamente raggiunte da tutti, poiché fungono da presupposto per garantire il pieno esercizio del diritto di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nosc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Risultato dell'assimilazione di informazioni attraverso l’apprendiment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e conoscenze sono un insieme di fatti, principi, teorie e pratiche relative ad un settore di lavoro o di studio”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le principali strutture grammaticali della lingua itali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gli elementi di base delle funzioni della lingu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35000" y="304920"/>
            <a:ext cx="889632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…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 le conoscenze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Le conoscenze vengo ad assumere u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ccff33"/>
                </a:solidFill>
                <a:latin typeface="Verdana"/>
              </a:rPr>
              <a:t>valore strumental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alla maturazione di </a:t>
            </a:r>
            <a:r>
              <a:rPr b="0" i="1" lang="it-IT" sz="3000" spc="-1" strike="noStrike">
                <a:solidFill>
                  <a:srgbClr val="ff3300"/>
                </a:solidFill>
                <a:latin typeface="Verdana"/>
              </a:rPr>
              <a:t>competenze essenzial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trasferibili da un contesto di esperienza all’altr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tante l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flessibilità dei perco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garantiti dall’autonomia scolas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ò che è importante è il conseguimen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e </a:t>
            </a:r>
            <a:r>
              <a:rPr b="0" i="1" lang="it-IT" sz="2400" spc="-1" strike="noStrike" u="sng">
                <a:solidFill>
                  <a:srgbClr val="ff3300"/>
                </a:solidFill>
                <a:uFillTx/>
                <a:latin typeface="Verdana"/>
              </a:rPr>
              <a:t>competenz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vanno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3" descr="j0301252"/>
          <p:cNvPicPr/>
          <p:nvPr/>
        </p:nvPicPr>
        <p:blipFill>
          <a:blip r:embed="rId1"/>
          <a:stretch/>
        </p:blipFill>
        <p:spPr>
          <a:xfrm>
            <a:off x="5867280" y="260280"/>
            <a:ext cx="1513080" cy="1268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7596360" y="33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j0252349"/>
          <p:cNvPicPr/>
          <p:nvPr/>
        </p:nvPicPr>
        <p:blipFill>
          <a:blip r:embed="rId2"/>
          <a:stretch/>
        </p:blipFill>
        <p:spPr>
          <a:xfrm>
            <a:off x="5867280" y="4649760"/>
            <a:ext cx="165744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97707"/>
          <p:cNvPicPr/>
          <p:nvPr/>
        </p:nvPicPr>
        <p:blipFill>
          <a:blip r:embed="rId3"/>
          <a:stretch/>
        </p:blipFill>
        <p:spPr>
          <a:xfrm>
            <a:off x="7956720" y="5229360"/>
            <a:ext cx="1147680" cy="141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Abilit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no le capacità di applicare conoscenze e di utilizzar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know-how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er portare a termine compiti e risolvere problemi. Esse sono sia cognitive (comprendenti l’uso del pensiero logico, intuitivo e creativo) o pratiche (comprendenti l’abilità manuale e l’uso di metodi, materiali, strumenti)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Trasformare un grafema in fon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Individuare le parti che costituiscono un 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1472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</a:t>
            </a:r>
            <a:r>
              <a:rPr b="1" i="1" lang="it-IT" sz="6000" spc="-1" strike="noStrike">
                <a:solidFill>
                  <a:srgbClr val="ffc000"/>
                </a:solidFill>
                <a:latin typeface="Verdana"/>
              </a:rPr>
              <a:t>Indicazioni Nazionali per il Curricolo?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A cosa servon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Le 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stagioni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 delle 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Indic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0-0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legate al riordino dei cicli scolas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De Mauro) (L. 30/20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4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piani di studio personalizzati e per i piani personalizzati delle attività educativ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Moratti) (DM. N. 59/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7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Fioroni) (DM 31 lug. 07, Direttiva 3 ago. 200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9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“Armonizzazione”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Atto di indirizzo MIUR, 8 settembre 200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Licei e Linee Guida IT e IP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2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rofuno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Livelli della progettazione curricolare: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dal centro alla perife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416720" cy="4319640"/>
          </a:xfrm>
          <a:prstGeom prst="rect">
            <a:avLst/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   </a:t>
            </a: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Curricolo Nazi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Verdana"/>
              </a:rPr>
              <a:t>Indic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284720" y="357336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4284720" y="249228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284720" y="465300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187280" y="407664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3300"/>
                </a:solidFill>
                <a:latin typeface="Verdana"/>
              </a:rPr>
              <a:t>Autonomia delle istituzioni scolast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332000" y="544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Verdana"/>
              </a:rPr>
              <a:t>Curricolo della scu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324000" y="1700280"/>
            <a:ext cx="2016000" cy="496872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869400 h 4968720"/>
              <a:gd name="textAreaBottom" fmla="*/ 360252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2"/>
          <p:cNvSpPr/>
          <p:nvPr/>
        </p:nvSpPr>
        <p:spPr>
          <a:xfrm flipH="1" flipV="1">
            <a:off x="7020000" y="1124640"/>
            <a:ext cx="1728720" cy="5040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882000 h 5040360"/>
              <a:gd name="textAreaBottom" fmla="*/ 36543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Indicazion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nazional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e curricolo unitari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7152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231f20"/>
                </a:solidFill>
                <a:latin typeface="Verdana"/>
                <a:ea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99"/>
                </a:solidFill>
                <a:latin typeface="Verdana"/>
                <a:ea typeface="Times New Roman"/>
              </a:rPr>
              <a:t>curricolo unita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erito 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gradi diversi di scuola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biennio scuola secondaria di II grad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ollocato all’interno di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cornice culturale</a:t>
            </a:r>
            <a:r>
              <a:rPr b="0" lang="it-IT" sz="4000" spc="-1" strike="noStrike">
                <a:solidFill>
                  <a:srgbClr val="ffc000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d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struttura organizzativ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Parole-chiave </a:t>
            </a:r>
            <a:br>
              <a:rPr sz="4400"/>
            </a:b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(… da dove veniamo, …per andare dove…?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186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Verdana"/>
              </a:rPr>
              <a:t>- Scuola dell’alfabetizzazione (di base e cultural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99"/>
                </a:solidFill>
                <a:latin typeface="Verdana"/>
              </a:rPr>
              <a:t>Program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</a:rPr>
              <a:t>Programm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Verdana"/>
              </a:rPr>
              <a:t>Curricol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95280" y="4149720"/>
            <a:ext cx="8424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19640" y="4005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68440" y="39337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ecff"/>
                </a:solidFill>
                <a:latin typeface="Verdana"/>
              </a:rPr>
              <a:t>19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95280" y="429264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- Scuola dell’autonom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28400" y="428760"/>
            <a:ext cx="8429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Verdana"/>
                <a:ea typeface="Times New Roman"/>
              </a:rPr>
              <a:t>Cornice cultural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ona, Cultura, Scu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scuola nel nuovo scenario sociale e culturale (complessità, globalizzazione, interculturalità, digitalizzazione, ec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entralità delle persona nel suo sviluppo globale e armonico (irriducibilità, irripetibilità, inviolabilità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a nuova cittadinanza (più coesione sociale, più competenze, più inclusio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 nuovo umanesimo (incontro tra saperi umanistici e saperi scientific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Verdana"/>
                <a:ea typeface="Times New Roman"/>
              </a:rPr>
              <a:t>Struttura organizzativ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 con riferimento al Profilo dello studente al termine del primo ciclo di istruzione,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specifici per ogni disciplina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Indicazioni, 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Non sono più previste le </a:t>
            </a:r>
            <a:r>
              <a:rPr b="0" i="1" lang="it-IT" sz="2800" spc="-1" strike="noStrike">
                <a:solidFill>
                  <a:srgbClr val="ffc000"/>
                </a:solidFill>
                <a:latin typeface="Verdana"/>
              </a:rPr>
              <a:t>“aree disciplinari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2352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I traguardi per lo sviluppo delle competenze</a:t>
            </a: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Rappresentano riferimenti per gli insegnanti, indicano piste da percorrere e </a:t>
            </a:r>
            <a:r>
              <a:rPr b="1" lang="it-IT" sz="2200" spc="-1" strike="noStrike">
                <a:solidFill>
                  <a:srgbClr val="ffcc66"/>
                </a:solidFill>
                <a:latin typeface="Verdana"/>
              </a:rPr>
              <a:t>aiutano a finalizzare l’azione educativa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o sviluppo integrale dell’alunn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cc"/>
                </a:solidFill>
                <a:latin typeface="Verdana"/>
              </a:rPr>
              <a:t>Nella scuola dell’infanzia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sugge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’insegnante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orientamenti, attenzioni e responsabilità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per favorire esperienze volte allo sviluppo della competenza, che a questa età va inteso in modo globale e unitari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ella scuola del primo cicl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favo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apprendimento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e la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costruzion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del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identità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degli alunni ponendo le basi per lo sviluppo delle competenze indispensabili per continuare ad apprendere a scuola e lungo l’intero arco della vi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Indicazioni per il curricol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per </a:t>
            </a:r>
            <a:br>
              <a:rPr sz="4400"/>
            </a:b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quali competenze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Verdana"/>
              </a:rPr>
              <a:t>Competenze disciplinar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Le competenze sviluppate nell’ambito delle singole disciplin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concorrono a loro volta alla promozione di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petenze più ampie e trasvers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che rappresentano una condizione essenziale per la piena realizzazione personale e per la partecipazione attiva alla vita social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Verdana"/>
              </a:rPr>
              <a:t>Competenze trasversa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competenze per l’esercizio della cittadinanza attiv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sono promosse continuamente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nell’ambito di tutte le attività di apprendimento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utilizzando e finalizzando opportunamente i contributi ch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ciascuna disciplina può offrire”.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Verdana"/>
              </a:rPr>
              <a:t>Da </a:t>
            </a:r>
            <a:r>
              <a:rPr b="0" i="1" lang="it-IT" sz="2000" spc="-1" strike="noStrike">
                <a:solidFill>
                  <a:srgbClr val="ccecff"/>
                </a:solidFill>
                <a:latin typeface="Verdana"/>
              </a:rPr>
              <a:t>Indicazioni per il currico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e Obiettivi di apprend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o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obiettivi ritenuti strate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 fine di raggiungere i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revisti dall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ongono oggetti conoscitivi: </a:t>
            </a:r>
            <a:r>
              <a:rPr b="0" lang="it-IT" sz="2000" spc="-1" strike="noStrike">
                <a:solidFill>
                  <a:srgbClr val="cc6600"/>
                </a:solidFill>
                <a:latin typeface="Verdana"/>
              </a:rPr>
              <a:t>Conosc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Abilit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DEFINITI AL TERMINE DELL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PRIMARIA (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escluso musica, educazione fisica, tecnologia, arte e immagin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QUINTA DELLA SCUOLA PRIMAR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SECONDARIA DI I PRIMO GRA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biettivi di apprendime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1523880" y="5257800"/>
            <a:ext cx="2233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conosc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5181480" y="5257800"/>
            <a:ext cx="223380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a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26920" y="6324480"/>
            <a:ext cx="7201080" cy="273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3962520" y="5410080"/>
            <a:ext cx="1008000" cy="720720"/>
          </a:xfrm>
          <a:prstGeom prst="pi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verticale e progress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’interno de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imo cic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atica della continu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va e didattica è resa perseguibile dalla presenza dell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es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scipline,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uni sia alla scuola primaria che alla scuola secondaria di primo grado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ontinuità educativ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i realizza attraverso i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urricolo unitar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non per mezzo di progetti ad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h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verticalità del currico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garantita dal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ogressione e dalla gradualità de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ra i vari segmenti scolastic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Unitarietà e progressione dei Traguardi/Competenze di base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Discorsi e le parole/Italia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Competenza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uni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2133720"/>
          <a:ext cx="8785440" cy="4508280"/>
        </p:xfrm>
        <a:graphic>
          <a:graphicData uri="http://schemas.openxmlformats.org/drawingml/2006/table">
            <a:tbl>
              <a:tblPr/>
              <a:tblGrid>
                <a:gridCol w="2156040"/>
                <a:gridCol w="6629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cu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TRAGUARDI PER LO SVILUPPO DELLE COMPETENZE E 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Infanz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Sviluppa fiducia e motivazione nell’esprimere e comunicare agli altri le proprie emozioni, le proprie domande, i propri ragionamenti e i propri pensieri attraverso il linguaggio verbale, utilizzandolo in modo differenziato e appropriato nelle diverse attività.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Prim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L’alunno partecipa a scambi comunicativi con compagni e docenti (conversazione, discussione, scambi epistolari…) attraverso messaggi semplici, chiari e pertinenti, formulati in un registro il più possibile adeguato alla situazion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________________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I gra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(bienni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Usa in modo efficace la comunicazione orale e scritta per collaborare con gli altri, per esempio nella realizzazione di giochi, nell’elaborazione di progetti e nella valutazione dell’efficacia di diverse soluzioni di un problem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______________________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Padroneggia gli strumenti espressivi ed argomentativi indispensabili per gestire   l’interazione comunicativa verbale in vari contesti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Traguardi e 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 traguardi in quanto competenze previste al termine di un titolo di studio devono essere attentamente certific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certificazione delle competenze non ha senso se non è riferita ad un curricolo per competenze definito a livello di istitu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rocesso/Prodotto successivo alle procedure di valutazione, mediante il quale la scuola attesta a terzi l’autenticità, validità e attendibilità delle competenze conseguite al termine di un percorso di studi, in maniera tale che dette competenze possano essere riconosciute all’esterno da diverse agen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Certificazione delle competenze: </a:t>
            </a:r>
            <a:br>
              <a:rPr sz="3200"/>
            </a:b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traguardi e </a:t>
            </a:r>
            <a:r>
              <a:rPr b="1" i="1" lang="it-IT" sz="3200" spc="-1" strike="noStrike">
                <a:solidFill>
                  <a:srgbClr val="ccecff"/>
                </a:solidFill>
                <a:latin typeface="Arial"/>
              </a:rPr>
              <a:t>descrittori di competen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certificazione delle competenze sarebbe più opportuno che fosse riferita ad appositi descrittori riferiti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di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poiché (talvolta) questi ultimi risultano essere troppo am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cessità di articolare i “traguardi” in “descrittori” di compet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i descrittori che danno conto della personalizzazione dei percorsi formativi, sia rispetto ai livelli di essenzialità delle competenze che ai “talenti” personali manifestati dagli alun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Dal programma alla programmazio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Programma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- Il manifesto culturale nazionale scritto dal legislatore che esplicita obiettivi e contenuti disciplina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alidità nazion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escrittiv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Programmazione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’edizione locale del manifesto nazionale, che tiene conto delle specificità dei contesti e dei soggetti coinvolti nel processo form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mensione lo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Flessibilità didattico-organizz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educ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didat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Come progettare 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n concreto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l curricolo di scuol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Provvedimenti europei e nazionali sul curricolo per competenze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45240" cy="444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Raccomandazione del Parlamento europeo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e del Consiglio del 18 dic. 2006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Nuovo obbligo di istruzione a 16 anni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(L. 26 dic. 2006, n. 296 e Decreto 22 ago. 2007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Indicazioni Nazionali per il curricolo (infanzia/I ciclo – 2012; Licei-Linee Guida IT e IP - 2011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692360" y="249228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ecff"/>
                </a:solidFill>
                <a:latin typeface="Arial"/>
              </a:rPr>
              <a:t>Il modello di progettazione dalle recenti politiche europee e nazionali per l’istruzion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895480" y="1143000"/>
            <a:ext cx="5637240" cy="2764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chiave per l’apprendimento permanen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643200" y="4005360"/>
            <a:ext cx="5321520" cy="7855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987640" y="2781360"/>
            <a:ext cx="5543640" cy="276480"/>
          </a:xfrm>
          <a:prstGeom prst="rect">
            <a:avLst/>
          </a:prstGeom>
          <a:solidFill>
            <a:srgbClr val="ff66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di base dell’obbligo di istruzi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908000" y="4005360"/>
            <a:ext cx="1697040" cy="642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Campi di esperi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1908000" y="5229360"/>
            <a:ext cx="705672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888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78000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3132000" y="5950080"/>
            <a:ext cx="5400720" cy="337320"/>
          </a:xfrm>
          <a:prstGeom prst="rect">
            <a:avLst/>
          </a:prstGeom>
          <a:solidFill>
            <a:srgbClr val="66ff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Verdana"/>
              </a:rPr>
              <a:t>Obiettivi di apprendimento (abilità e conoscenz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37"/>
          <p:cNvSpPr/>
          <p:nvPr/>
        </p:nvSpPr>
        <p:spPr>
          <a:xfrm flipH="1" flipV="1">
            <a:off x="1692000" y="1267920"/>
            <a:ext cx="44280" cy="487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2987640" y="1905120"/>
            <a:ext cx="5472000" cy="276480"/>
          </a:xfrm>
          <a:prstGeom prst="rect">
            <a:avLst/>
          </a:prstGeom>
          <a:solidFill>
            <a:srgbClr val="ffff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Competenze chiave di cittadinanza per l’obbligo scolas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457200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4572000" y="3068640"/>
            <a:ext cx="11523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matema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3059280" y="3068640"/>
            <a:ext cx="1511280" cy="276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dei linguagg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5724360" y="3068640"/>
            <a:ext cx="1511640" cy="459000"/>
          </a:xfrm>
          <a:prstGeom prst="rect">
            <a:avLst/>
          </a:prstGeom>
          <a:solidFill>
            <a:srgbClr val="66cc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cientifico-tecnolog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47"/>
          <p:cNvSpPr/>
          <p:nvPr/>
        </p:nvSpPr>
        <p:spPr>
          <a:xfrm>
            <a:off x="7236000" y="3068640"/>
            <a:ext cx="1223640" cy="45900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torico-socia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48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Line 49"/>
          <p:cNvSpPr/>
          <p:nvPr/>
        </p:nvSpPr>
        <p:spPr>
          <a:xfrm>
            <a:off x="6443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50"/>
          <p:cNvSpPr/>
          <p:nvPr/>
        </p:nvSpPr>
        <p:spPr>
          <a:xfrm>
            <a:off x="788508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58"/>
          <p:cNvSpPr/>
          <p:nvPr/>
        </p:nvSpPr>
        <p:spPr>
          <a:xfrm>
            <a:off x="63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59"/>
          <p:cNvSpPr/>
          <p:nvPr/>
        </p:nvSpPr>
        <p:spPr>
          <a:xfrm>
            <a:off x="810108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60"/>
          <p:cNvSpPr/>
          <p:nvPr/>
        </p:nvSpPr>
        <p:spPr>
          <a:xfrm>
            <a:off x="579600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61"/>
          <p:cNvSpPr/>
          <p:nvPr/>
        </p:nvSpPr>
        <p:spPr>
          <a:xfrm>
            <a:off x="2700360" y="4653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763640" y="61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1692360" y="2060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65"/>
          <p:cNvSpPr/>
          <p:nvPr/>
        </p:nvSpPr>
        <p:spPr>
          <a:xfrm>
            <a:off x="1692360" y="1268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6"/>
          <p:cNvSpPr/>
          <p:nvPr/>
        </p:nvSpPr>
        <p:spPr>
          <a:xfrm>
            <a:off x="1692360" y="29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67"/>
          <p:cNvSpPr/>
          <p:nvPr/>
        </p:nvSpPr>
        <p:spPr>
          <a:xfrm>
            <a:off x="179280" y="1125360"/>
            <a:ext cx="1297080" cy="894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formativ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el 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68"/>
          <p:cNvSpPr/>
          <p:nvPr/>
        </p:nvSpPr>
        <p:spPr>
          <a:xfrm>
            <a:off x="179280" y="2781360"/>
            <a:ext cx="1297080" cy="3435480"/>
          </a:xfrm>
          <a:prstGeom prst="rect">
            <a:avLst/>
          </a:prstGeom>
          <a:solidFill>
            <a:srgbClr val="ffcc66"/>
          </a:solidFill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dattic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el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69"/>
          <p:cNvSpPr/>
          <p:nvPr/>
        </p:nvSpPr>
        <p:spPr>
          <a:xfrm>
            <a:off x="1547640" y="119700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71"/>
          <p:cNvSpPr/>
          <p:nvPr/>
        </p:nvSpPr>
        <p:spPr>
          <a:xfrm>
            <a:off x="1547640" y="2852640"/>
            <a:ext cx="71640" cy="3384720"/>
          </a:xfrm>
          <a:custGeom>
            <a:avLst/>
            <a:gdLst>
              <a:gd name="textAreaLeft" fmla="*/ 45720 w 71640"/>
              <a:gd name="textAreaRight" fmla="*/ 72000 w 7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Competenze chiave per l’apprendimento perman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re nella lingua mad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zione in lingue stranie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matematica e competenza di base in campo scientifico e tecnologico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digit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Imparare a impara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e sociali e civ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Spirito di iniziativa e di imprenditorialit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nsapevolezza ed espressione cultur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Arial"/>
              </a:rPr>
              <a:t>Competenze chiave di cittadinanza da acquisire al termine dell’istruzione obbligatoria</a:t>
            </a: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cecff"/>
                </a:solidFill>
                <a:latin typeface="Arial"/>
              </a:rPr>
              <a:t>(Allegato 2», Decreto 22 agosto 2007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Costruzione del s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1. Imparare ad impar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organizzare il proprio apprendimento, individuando, scegliendo ed utilizzando varie fonti e varie modalità di informazione e di formazione (formale, non formale ed informale), anche in funzione dei tempi disponibili, delle proprie strategie e del proprio metodo di lavoro e di studio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2. Progett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formulare progetti riguardanti lo sviluppo delle proprie attività di studio e di lavoro, utilizzando le conoscenze apprese per stabilire obiettivi significativi e realistici e le relative priorità, valutando i vincoli e le possibilità esistenti, definendo  strategie di azione e verificando i risultati raggiunt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Relazioni con gli altr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3. Comunicare</a:t>
            </a:r>
            <a:r>
              <a:rPr b="1" lang="it-IT" sz="1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comprende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messaggi di genere diverso (quotidiano, letterario, tecnico, scientifico) e di complessità diversa, trasmessi utilizzando linguaggi diversi (verbale, matematico, scientifico, simbolico, ecc.) mediante diversi supporti (cartacei, informatici e multimediali)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rappresenta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4. Collaborare e partecipare: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interagire in gruppo, comprendendo i diversi punti di vista, contribuendo all’apprendimento comune ed alla realizzazione delle attività collettive, nel riconoscimento dei diritti fondamentali degli altr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5. Agire in modo autonomo e responsabile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sapersi inserire in modo attivo e consapevole nella vita sociale e far valere al suo interno i propri diritti e bisogni riconoscendo al contempo quelli altrui, le opportunità comuni, i limiti, le regole le responsabilità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Positiva interazione con la realtà naturale e socia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6. Risolvere problemi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ffrontare situazioni problematiche costruendo e verificando ipotesi, individuando le fonti, raccogliendo e valutando i dati, proponendo soluzioni utilizzando, secondo il tipo di problema, contenuti e metodi delle diverse discipline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7. Individuare collegamenti e relazioni: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8. Acquisire ed interpretare l’informazione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cquisire ed interpretare criticamente l’informazione ricevuta nei diversi ambiti ed attraverso diversi strumenti comunicativi, valutandone l’attendibilità e l’utilità, distinguendo fatti e opinion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Competenze chiave di cittadinanza</a:t>
            </a:r>
            <a:br>
              <a:rPr sz="3600"/>
            </a:br>
            <a:r>
              <a:rPr b="1" i="1" lang="it-IT" sz="3600" spc="-1" strike="noStrike">
                <a:solidFill>
                  <a:srgbClr val="ccecff"/>
                </a:solidFill>
                <a:latin typeface="Arial"/>
              </a:rPr>
              <a:t>(dimensione formativa del curricolo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402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Le competenze chiave di cittadinanza sono un punto di riferimento formativo </a:t>
            </a:r>
            <a:r>
              <a:rPr b="0" lang="it-IT" sz="3200" spc="-1" strike="noStrike" u="sng">
                <a:solidFill>
                  <a:srgbClr val="ffffcc"/>
                </a:solidFill>
                <a:uFillTx/>
                <a:latin typeface="Verdana"/>
              </a:rPr>
              <a:t>per tutta la scuola dell’obbligo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, esse però vanno </a:t>
            </a:r>
            <a:r>
              <a:rPr b="0" i="1" lang="it-IT" sz="3200" spc="-1" strike="noStrike">
                <a:solidFill>
                  <a:srgbClr val="ffffcc"/>
                </a:solidFill>
                <a:latin typeface="Verdana"/>
              </a:rPr>
              <a:t>“descritte”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 in base all’ordine e grado di scuola e all’età degli alu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ssi culturali dell’obbligo di istruzione</a:t>
            </a:r>
            <a:br>
              <a:rPr sz="3400"/>
            </a:b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(I biennio)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dei linguagg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matema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cientifico-tecnolog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torico-socia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1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50920" y="1268280"/>
          <a:ext cx="8713800" cy="5283360"/>
        </p:xfrm>
        <a:graphic>
          <a:graphicData uri="http://schemas.openxmlformats.org/drawingml/2006/table">
            <a:tbl>
              <a:tblPr/>
              <a:tblGrid>
                <a:gridCol w="2160360"/>
                <a:gridCol w="65534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22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dei linguag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anza della lingua italian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 comunicativa verbale in vari contesti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ggere, comprendere ed interpretare testi scritti di vario tipo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una lingua straniera per i principali scopi comunicativi ed oper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gli strumenti fondamentali per una fruizione consapevole del patrimonio artistico e lettera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e produrre testi multimedi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ema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le tecniche e le procedure del calcolo aritmetico ed algebrico, rappresentandole anche sotto forma grafic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frontare ed analizzare figure geometriche, individuando varianti e relazion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le strategie appropriate per la soluzione di proble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dati e interpretarli sviluppando deduzioni e ragionamenti sugli stessi anche con l’ausilio di rappresentazioni grafiche, usando consapevolmente gli strumenti di calcolo e le potenzialità offerte da applicazioni specifiche di tipo informat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1341360"/>
          <a:ext cx="8229600" cy="518652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scientifico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tecnolo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Osservare, descrivere ed analizzare fenomeni appartenenti alla realtà naturale e artificiale e riconoscere nelle sue varie forme i concetti di sistema e di complessità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qualitativamente e quantitativamente fenomeni legati alle trasformazioni di energia a partire dall’esperienz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sere consapevoli delle potenzialità e dei limiti delle tecnologie nel contesto culturale e sociale in cui vengono applica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9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storico-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cambiamento e la diversità dei tempi storici in una dimensione diacronica attraverso il confronto fra epoche e in una dimensione sincronica attraverso il confronto fra aree geografiche e cultur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8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llocare l’esperienza personale in un sistema di regole fondato sul reciproco riconoscimento dei diritti garantiti dalla Costituzione, a tutela della persona, della collettività e dell’ambi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le caratteristiche essenziali del sistema socio economico per orientarsi nel tessuto produttivo del proprio territo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Competenze , abilità, conoscenze</a:t>
            </a:r>
            <a:br>
              <a:rPr sz="2800"/>
            </a:br>
            <a:r>
              <a:rPr b="1" i="1" lang="it-IT" sz="2000" spc="-1" strike="noStrike">
                <a:solidFill>
                  <a:srgbClr val="ccecff"/>
                </a:solidFill>
                <a:latin typeface="Arial"/>
              </a:rPr>
              <a:t>(Decreto 22 agosto 2007, Nuovo obbligo di istruzione)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1600200"/>
          <a:ext cx="8713800" cy="4924440"/>
        </p:xfrm>
        <a:graphic>
          <a:graphicData uri="http://schemas.openxmlformats.org/drawingml/2006/table">
            <a:tbl>
              <a:tblPr/>
              <a:tblGrid>
                <a:gridCol w="2146320"/>
                <a:gridCol w="3202200"/>
                <a:gridCol w="3365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mpet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Abilit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nosc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unicativa verb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 vari conte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messaggio contenuto in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gliere le relazioni logiche tra le varie component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porre in modo chiaro, logico e coerente esperienze vissute o testi ascolta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differenti registri comunicativ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ffrontare molteplici situazioni comunicative scambiando informazioni e idee per esprimere anche il proprio punto di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il punto di vista dell’altro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ali strutture grammaticali della lingua itali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lementi di base delle funzioni della lin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ssico fondamentale per la gestione di semplici comunicazioni orali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testo, scopo e destinatario della comunic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dici fondamentali della comunicazione orale, verbale e non verb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i di organizzazione del discorso, narrativo, espositivo, argomen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’è il curricol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0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II biennio e V anno</a:t>
            </a: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66ffcc"/>
                </a:solidFill>
                <a:latin typeface="Arial"/>
              </a:rPr>
              <a:t>Licei e IT/IP - Vincoli normativi divers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cc"/>
                </a:solidFill>
                <a:latin typeface="Verdana"/>
              </a:rPr>
              <a:t>Legge N° 53/03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Moratti): in parte modificata dal Regol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6600"/>
                </a:solidFill>
                <a:latin typeface="Verdana"/>
              </a:rPr>
              <a:t>D.L. N° 226/05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: non attuato, ma vig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Legge N° 40/07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Fioroni): Scorporo Lic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st. Economici e Tecnologici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Regolamenti 15.3.10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Gelmini): Linee gui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a) Regolamento I.T. (15.3.10)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7505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- Settore economico - Due indirizz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dro orar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generali comuni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filo in uscita (Risultati di apprendimento e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 Ind. AMMININ.-FINANZA-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Relazioni internaz. per il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Sistemi informativi aziendal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– Ind. TURIS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C - Settore Tecnologico – Nove indirizz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D – Tabella di conflu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b) Regolamento I.P. (15.3.10)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840" y="1025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economico - Quattro indirizzi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Quadro orario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generali comuni  (area istruz. gen.)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in uscita (Risultati di apprendimento e competenze)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Servizi per l'agricoltura e sviluppo rurale      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socio-sanitar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3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per l'enogastronomia e l'ospitalità alb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4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commerci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C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 industria e artigianato – Due indirizz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Produzioni industriali e artigian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2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– Manutenzione e assistenza tecnic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D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Tabella di confluenz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) Regolamento Licei (15.3.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cc"/>
                </a:solidFill>
                <a:latin typeface="Verdana"/>
              </a:rPr>
              <a:t>Allegati A–G</a:t>
            </a: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:  Piano degli studi 5 Licei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Per ogni Liceo e disciplin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Profili generali e competenze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Obiettivi specifici di apprendiment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Indicazioni nazionali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Riferimenti bibliograf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Ajello A.M., Pontecorvo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Teoria e pratica dell’innovazion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2002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aldacci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Ripensare il curricolo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ianco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Storia, teorie e modelli applicativ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mb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a progettazione curricolare nella scuola contemporane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Dalla programmazione educativa e didattica alla progettazione curricolar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8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Cartei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intercultur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10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erini G., Frabbon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di bas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Tecnondid, Napoli, 2001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olombo A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e l’educazione linguistica. Leggere le nuove Indicazion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7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e didattiche disciplinar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Erickson, Gardolo (TN), 2007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Manini M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Percorsi, labirinti e mappe. Esperienze protomatematiche nella scuola dell'infanzi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1985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valutazione in matematic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Pitagora, Bologn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Perrenoud P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ostruire competenze a partire dalla scuol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Anicia, Roma, 2000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utonomia scolastica e PO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l POF è il documento fondamentale costitutivo dell’</a:t>
            </a:r>
            <a:r>
              <a:rPr b="1" lang="it-IT" sz="3200" spc="-1" strike="noStrike">
                <a:solidFill>
                  <a:srgbClr val="ffcc00"/>
                </a:solidFill>
                <a:latin typeface="Verdana"/>
              </a:rPr>
              <a:t>identità culturale e progettu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delle istituzioni scolastiche ed esplicita la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 curricolare, extracurricolare, educativa e organizzativa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che le singole scuole adottano nell’ambito della loro autonomia” (DPR 275/99, art. 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POF e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Le istituzioni scolastiche determinano nel Piano dell’Offerta Formativa il </a:t>
            </a:r>
            <a:r>
              <a:rPr b="0" i="1" lang="it-IT" sz="4000" spc="-1" strike="noStrike">
                <a:solidFill>
                  <a:srgbClr val="ff6699"/>
                </a:solidFill>
                <a:latin typeface="Verdana"/>
              </a:rPr>
              <a:t>curricolo obbligato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[…]. Nell’attuazione del curricolo le istituzioni scolastiche precisano le scelte di flessibilità previste” (DPR 275/99, art. 8, co. 2)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26828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Percorso formativo intenzionale progettato dalle singole istituzioni scolastiche, tenuto conto dei bisogni della popolazione scolastica e delle risorse del territorio (F. Frabboni)”, nel rispetto sia dell’autonomia delle singole scuole che degli obiettivi generali del sistema di istruzione.</a:t>
            </a:r>
            <a:r>
              <a:rPr b="0" i="1" lang="it-IT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(Cfr. Frabboni F., </a:t>
            </a:r>
            <a:r>
              <a:rPr b="0" i="1" lang="it-IT" sz="1400" spc="-1" strike="noStrike">
                <a:solidFill>
                  <a:srgbClr val="ccecff"/>
                </a:solidFill>
                <a:latin typeface="Verdana"/>
              </a:rPr>
              <a:t>Le dieci parole della didattica</a:t>
            </a: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Ethel Editoriale Giorgio Mondatori, Milano, 199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 non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ramma” ma</a:t>
            </a:r>
            <a:r>
              <a:rPr b="1" lang="it-IT" sz="4000" spc="-1" strike="noStrike">
                <a:solidFill>
                  <a:srgbClr val="ffcc66"/>
                </a:solidFill>
                <a:latin typeface="Arial"/>
              </a:rPr>
              <a:t>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etta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7680" y="16761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Verdana"/>
              </a:rPr>
              <a:t>Programm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’organizzazione di un sapere dato (il programma) in sequenze temporali (spesso imposte dalla sistematica della discipl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a costruzione originale di un percorso di “apprendimento insegnato” e quindi intenzionale definito a partire dall’analisi dei bisogni dei soggetti e del cont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0:00Z</dcterms:created>
  <dc:creator>davide</dc:creator>
  <dc:description/>
  <dc:language>en-US</dc:language>
  <cp:lastModifiedBy>Valued Acer Customer</cp:lastModifiedBy>
  <dcterms:modified xsi:type="dcterms:W3CDTF">2014-03-19T22:53:30Z</dcterms:modified>
  <cp:revision>150</cp:revision>
  <dc:subject/>
  <dc:title>Università degli Studi di Firenze Facoltà di Scienze della Formazione  Corso di Perfezionamento "La Formazione della Dirigenza Scolastica"   </dc:title>
</cp:coreProperties>
</file>